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D9FD-04E1-444F-9009-BFA7E633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C45A-9FA8-4128-B2EF-A2675DFE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37C3-D662-4EBE-AB1A-3E77CD4A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A52A-85B9-4E55-8380-B4882C15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2A53-180B-4D4D-A576-4ED5BB7F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D284-EA92-4A0B-B7EE-4E3B1E7B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7B5B-FFF7-4F12-AA33-AAF21344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24D4-8E19-4EC0-B92F-E4A90B0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B83B-AFF6-4BBE-896F-50B67ADF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F3F6-B987-4465-8D34-015F6BBE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9121-CDA4-4A4B-9753-220F3F2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E677-E08A-4EC6-96EE-CCFCA454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54CC-0C7C-4F9A-B6D7-DA7649F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315-8197-4210-8AE0-FC103D45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D56B-8376-4975-BA56-7DE7E4A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7A65-56AB-448C-A39A-4CFCF5AD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0C97-A46A-41C7-91FA-3F90D547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50CD-9A55-48A7-AEB4-7D1ACE1F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DAC1-0747-4781-9C04-D0700F8F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BD05-EC3C-402D-B145-307DBF36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5524-1037-4152-8A8F-EE07F9FD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3D03-7926-49A3-AC94-F5391E1E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8DA9-79EA-47FE-BBD2-CD62005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22B1-E100-4796-A2E7-7E2B5DBD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5E60-939A-40DB-ADF2-3FC760102E43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EBEF-6661-4F0E-85DD-7323A708D5C7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LIFE OF A SOLDI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O YOU  NOTIC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2549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O YOU NOTIC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0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Y WERE STILL HUM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2389320"/>
            <a:ext cx="3889440" cy="3082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3807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GING 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25924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NING STAND 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761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KFA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34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ILY CH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6865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SSING THE TI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6152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ING STAND 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Draining Trenches"/>
          <p:cNvPicPr/>
          <p:nvPr/>
        </p:nvPicPr>
        <p:blipFill>
          <a:blip r:embed="rId2"/>
          <a:stretch/>
        </p:blipFill>
        <p:spPr>
          <a:xfrm>
            <a:off x="1692360" y="1628640"/>
            <a:ext cx="566892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UTIES IN NO MANS L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102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CH RO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1832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0:53:13Z</dcterms:created>
  <dc:creator>Catherine Boudreau</dc:creator>
  <dc:description/>
  <dc:language>en-US</dc:language>
  <cp:lastModifiedBy>Greg Peters</cp:lastModifiedBy>
  <dcterms:modified xsi:type="dcterms:W3CDTF">2009-11-18T12:13:41Z</dcterms:modified>
  <cp:revision>2</cp:revision>
  <dc:subject/>
  <dc:title>THE LIFE OF A SOLDIER</dc:title>
</cp:coreProperties>
</file>